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918-EDA8-48D8-B80F-7397D143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BB0-AFFC-4FB6-81A6-3D8FB46B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D99-8B9C-4B16-B420-7D5137C0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869-DED1-4D4A-962C-F051BD06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8C6-D731-43A5-823C-81281E9F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B08-8096-440B-B641-CCD935E2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547-1FCE-4D3C-BDA3-3003BF0B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5EB-7703-437C-BEFC-DC72F3F1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287-BFFA-4E52-9EE2-4071B3B9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EA6-C7CF-4B39-A21A-042315F8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B8D-69DE-40F4-9F8A-AA199B95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310-103B-4DFC-8787-B0301024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C3EE-9076-44E4-BB32-E5C8D00B3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8.xml"/><Relationship Id="rId3" Type="http://schemas.openxmlformats.org/officeDocument/2006/relationships/slide" Target="slide30.xml"/><Relationship Id="rId4" Type="http://schemas.openxmlformats.org/officeDocument/2006/relationships/slide" Target="slide42.xml"/><Relationship Id="rId5" Type="http://schemas.openxmlformats.org/officeDocument/2006/relationships/slide" Target="slide8.xml"/><Relationship Id="rId6" Type="http://schemas.openxmlformats.org/officeDocument/2006/relationships/slide" Target="slide20.xml"/><Relationship Id="rId7" Type="http://schemas.openxmlformats.org/officeDocument/2006/relationships/slide" Target="slide32.xml"/><Relationship Id="rId8" Type="http://schemas.openxmlformats.org/officeDocument/2006/relationships/slide" Target="slide44.xml"/><Relationship Id="rId9" Type="http://schemas.openxmlformats.org/officeDocument/2006/relationships/slide" Target="slide10.xml"/><Relationship Id="rId10" Type="http://schemas.openxmlformats.org/officeDocument/2006/relationships/slide" Target="slide22.xml"/><Relationship Id="rId11" Type="http://schemas.openxmlformats.org/officeDocument/2006/relationships/slide" Target="slide34.xml"/><Relationship Id="rId12" Type="http://schemas.openxmlformats.org/officeDocument/2006/relationships/slide" Target="slide46.xml"/><Relationship Id="rId13" Type="http://schemas.openxmlformats.org/officeDocument/2006/relationships/slide" Target="slide12.xml"/><Relationship Id="rId14" Type="http://schemas.openxmlformats.org/officeDocument/2006/relationships/slide" Target="slide24.xml"/><Relationship Id="rId15" Type="http://schemas.openxmlformats.org/officeDocument/2006/relationships/slide" Target="slide36.xml"/><Relationship Id="rId16" Type="http://schemas.openxmlformats.org/officeDocument/2006/relationships/slide" Target="slide48.xml"/><Relationship Id="rId17" Type="http://schemas.openxmlformats.org/officeDocument/2006/relationships/slide" Target="slide14.xml"/><Relationship Id="rId18" Type="http://schemas.openxmlformats.org/officeDocument/2006/relationships/slide" Target="slide26.xml"/><Relationship Id="rId19" Type="http://schemas.openxmlformats.org/officeDocument/2006/relationships/slide" Target="slide38.xml"/><Relationship Id="rId20" Type="http://schemas.openxmlformats.org/officeDocument/2006/relationships/slide" Target="slide50.xml"/><Relationship Id="rId21" Type="http://schemas.openxmlformats.org/officeDocument/2006/relationships/slide" Target="slide16.xml"/><Relationship Id="rId22" Type="http://schemas.openxmlformats.org/officeDocument/2006/relationships/slide" Target="slide28.xml"/><Relationship Id="rId23" Type="http://schemas.openxmlformats.org/officeDocument/2006/relationships/slide" Target="slide40.xml"/><Relationship Id="rId24" Type="http://schemas.openxmlformats.org/officeDocument/2006/relationships/slide" Target="slide52.xml"/><Relationship Id="rId2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ллектуальный  марафон по биологии «Здоровье и спорт»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учащихся 8 класс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libr.s-vfu.ru/files/47.jpg"/>
          <p:cNvPicPr/>
          <p:nvPr/>
        </p:nvPicPr>
        <p:blipFill>
          <a:blip r:embed="rId1"/>
          <a:stretch/>
        </p:blipFill>
        <p:spPr>
          <a:xfrm>
            <a:off x="2971800" y="2666880"/>
            <a:ext cx="30099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тамин, укрепляющий зре-ние, улучшающий состояние ко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ровитамин А – кар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(30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File:CarrotDiversityLg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586728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чем детям дают рыбий ж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Для предотв-ращения воз-никновения рахита при не-достатке вита-мина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(40 бал-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44853632_1244443967_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2133720"/>
            <a:ext cx="4314960" cy="33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зкий рост некоторых из народов тропических стран – не особая расовая черта, а следствие неполноценного питания. Каких веществ не-достаточно в их пищ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Бел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(50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belki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57600" y="1905120"/>
            <a:ext cx="5257800" cy="35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Древней Индии для решения во-проса о виновности или невиновнос-ти подсудимого иногда предлагали съесть сухой рис. Если обвиняемый его съедал, считалось, что он не ви-новен, если нет – признавался вино-вным. На основании каких знаний применялось «испытание рисом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 страха пре-кращается слю-ноотделение, во рту пересыхает – и сухой рис съесть невоз-можно (60 бал-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fa0e8156cb00dac00a088bac52e25ee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1946160"/>
            <a:ext cx="449604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пословице «Каждый … своего здоровья» вставьте недостающее сл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Каждый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узнец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своего здоро-вья (10 бал-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66050815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48320" y="2133720"/>
            <a:ext cx="449568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рвый этап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редставление команды 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(название команды, девиз, эмблема, выбор командир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libr.s-vfu.ru/files/47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ончите поговорку «Пеш-ком ходить - 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ешком ходить –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олго жить (20 бал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nordic_walki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00200" y="0"/>
            <a:ext cx="6095880" cy="37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такое гиподинамия? Чем она опасна для чело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иподинамия – не-достаток движе-ния. Один из ос-новных факторов возникновения бо-лезней сердечно-сосудистой систе-мы и диабета (30 бал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407036_531375223567553_1592428765_n"/>
          <p:cNvPicPr/>
          <p:nvPr/>
        </p:nvPicPr>
        <p:blipFill>
          <a:blip r:embed="rId1"/>
          <a:stretch/>
        </p:blipFill>
        <p:spPr>
          <a:xfrm>
            <a:off x="228600" y="2108160"/>
            <a:ext cx="454356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ск возникновения каких заболеваний в первую оче-редь снижают занятия спор-т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редечно-со-судистых (40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article-2005445-0CA6E57800000578-91_468x480"/>
          <p:cNvPicPr/>
          <p:nvPr/>
        </p:nvPicPr>
        <p:blipFill>
          <a:blip r:embed="rId1"/>
          <a:stretch/>
        </p:blipFill>
        <p:spPr>
          <a:xfrm>
            <a:off x="4572000" y="1600200"/>
            <a:ext cx="4386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е влияние оказывают за-нятия физкультурой и спор-том на дыхательную систе-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величивается объем легких; спортсмены ре-же болеют брон-хитом и воспа-лением легких (50 бал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1366102307_legkie-cheloveka"/>
          <p:cNvPicPr/>
          <p:nvPr/>
        </p:nvPicPr>
        <p:blipFill>
          <a:blip r:embed="rId1"/>
          <a:stretch/>
        </p:blipFill>
        <p:spPr>
          <a:xfrm>
            <a:off x="304920" y="2057400"/>
            <a:ext cx="431460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ая система органов че-ловека в первую очередь подвержена изменениям при занятиях спорт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порно-двига-тельная (60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20%20%D0%BE%D0%BF%D0%BE%D1%80%D0%BD%D0%BE%20%D0%B4%D0%B2%D0%B8%D0%B3%D0%B0%D1%82%20%D0%B0%D0%BF%D0%BF%D0%B0%D1%80%D0%B0%D1%82"/>
          <p:cNvPicPr/>
          <p:nvPr/>
        </p:nvPicPr>
        <p:blipFill>
          <a:blip r:embed="rId1"/>
          <a:stretch/>
        </p:blipFill>
        <p:spPr>
          <a:xfrm>
            <a:off x="304920" y="149544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трой этап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разминка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(каждой команде предлагается по одному вопросу, по очереди, за каждый правильный ответ один бал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libr.s-vfu.ru/files/47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олжите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здоровом теле здоровый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жи голову в холоде, жи-вот в голоде, а ноги в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В тепле (10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portivnaya-anapa-more-125"/>
          <p:cNvPicPr/>
          <p:nvPr/>
        </p:nvPicPr>
        <p:blipFill>
          <a:blip r:embed="rId1"/>
          <a:stretch/>
        </p:blipFill>
        <p:spPr>
          <a:xfrm>
            <a:off x="3657600" y="1447920"/>
            <a:ext cx="5153040" cy="41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й фактор играет опреде-ляющую роль для состояния здоровья чело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браз жизни (20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100068830_909999990"/>
          <p:cNvPicPr/>
          <p:nvPr/>
        </p:nvPicPr>
        <p:blipFill>
          <a:blip r:embed="rId1"/>
          <a:stretch/>
        </p:blipFill>
        <p:spPr>
          <a:xfrm>
            <a:off x="304920" y="1386000"/>
            <a:ext cx="43146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вершите предложение. «Состояние полного физи-ческого, душевного и соци-ального благополучия, а не только отсутствие болезней и физических недостатков при-нято называть 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Здоровьем  (30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ar129506505615143"/>
          <p:cNvPicPr/>
          <p:nvPr/>
        </p:nvPicPr>
        <p:blipFill>
          <a:blip r:embed="rId1"/>
          <a:stretch/>
        </p:blipFill>
        <p:spPr>
          <a:xfrm>
            <a:off x="3352680" y="2286000"/>
            <a:ext cx="5791320" cy="43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гда отмечается Всемирный День здоровь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7 апреля (40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07042013"/>
          <p:cNvPicPr/>
          <p:nvPr/>
        </p:nvPicPr>
        <p:blipFill>
          <a:blip r:embed="rId1"/>
          <a:stretch/>
        </p:blipFill>
        <p:spPr>
          <a:xfrm>
            <a:off x="152280" y="1371600"/>
            <a:ext cx="45561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элементы здорово-го 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Двигательный 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Закал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иги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Рациональное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армония взаимо-отношений (50 бал-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77315244_1"/>
          <p:cNvPicPr/>
          <p:nvPr/>
        </p:nvPicPr>
        <p:blipFill>
          <a:blip r:embed="rId1"/>
          <a:stretch/>
        </p:blipFill>
        <p:spPr>
          <a:xfrm>
            <a:off x="4343400" y="1752480"/>
            <a:ext cx="449568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рт, здоровье, ЗО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Своя иг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ящая сигарета содержит 4720 различных веществ и все вредные, в их числе 40 канцерогенов и 12 коканце-рогенов. Что означают терми-ны канцероген и коканцеро-ге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анцероген – ра-кообразующее вещество, кокан-цероген – ве-щество, усили-вающее воздей-ствие канцероге-на (60 бал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Sigaretnye_jady"/>
          <p:cNvPicPr/>
          <p:nvPr/>
        </p:nvPicPr>
        <p:blipFill>
          <a:blip r:embed="rId1"/>
          <a:stretch/>
        </p:blipFill>
        <p:spPr>
          <a:xfrm>
            <a:off x="152280" y="1905120"/>
            <a:ext cx="446724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 чего произошло слово «стадион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т слова «ста-дия» - мера длины (10 бал-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1320947200_loko_lokomotiv"/>
          <p:cNvPicPr/>
          <p:nvPr/>
        </p:nvPicPr>
        <p:blipFill>
          <a:blip r:embed="rId1"/>
          <a:stretch/>
        </p:blipFill>
        <p:spPr>
          <a:xfrm>
            <a:off x="4648320" y="1600200"/>
            <a:ext cx="416232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гда состоялись первые олимпийские игры совре-менно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В 1896 году в Афинах (20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1578716_10_HD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3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является основателем современного олимпийского дви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арон Пьер де Кубертен (40 бал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pierre_de_coubertin"/>
          <p:cNvPicPr/>
          <p:nvPr/>
        </p:nvPicPr>
        <p:blipFill>
          <a:blip r:embed="rId1"/>
          <a:stretch/>
        </p:blipFill>
        <p:spPr>
          <a:xfrm>
            <a:off x="4230720" y="1447920"/>
            <a:ext cx="44830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ва длина марафонской дистан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42 км 195 м (40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51af6dfc86ac8s45793_p"/>
          <p:cNvPicPr/>
          <p:nvPr/>
        </p:nvPicPr>
        <p:blipFill>
          <a:blip r:embed="rId1"/>
          <a:stretch/>
        </p:blipFill>
        <p:spPr>
          <a:xfrm>
            <a:off x="533520" y="609480"/>
            <a:ext cx="387504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274680"/>
          <a:ext cx="8229600" cy="6351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т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порт и здоров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О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лимпий-ские иг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 человек входит в состав судейской коллег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Три (50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IMG_4613"/>
          <p:cNvPicPr/>
          <p:nvPr/>
        </p:nvPicPr>
        <p:blipFill>
          <a:blip r:embed="rId1"/>
          <a:stretch/>
        </p:blipFill>
        <p:spPr>
          <a:xfrm>
            <a:off x="3352680" y="1295280"/>
            <a:ext cx="5410440" cy="43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расположены кольца на олимпийском симво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верху: синий, черный, крас-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низу: желтый, зеленый (60 бал-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olimpic_%281%29"/>
          <p:cNvPicPr/>
          <p:nvPr/>
        </p:nvPicPr>
        <p:blipFill>
          <a:blip r:embed="rId1"/>
          <a:stretch/>
        </p:blipFill>
        <p:spPr>
          <a:xfrm>
            <a:off x="0" y="2209680"/>
            <a:ext cx="446724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х органических веществ больше всего содержится в мясе, рыбе, творог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Бел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(10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belkovie-produkti%5B1%5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3124080"/>
            <a:ext cx="662940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ва суточная потребность человека в углевод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500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(20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PR2011081414434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76520" y="27972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4-02-19T04:54:4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